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4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27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4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A39-D08A-46A7-825C-60F0A274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32E4-5394-4D28-9C6C-3AE5E154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A8CA-DEA9-44C1-986A-53DABB67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968F-10ED-4754-B321-71DFC2A3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067A-4D9A-4F94-8DFD-F20408DA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BF6A-8DCD-4918-9290-3D529543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0DFB-D6F2-4C2D-9C0D-085130D8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A024-9DD3-4AE8-AB3F-51E7C372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083F-3CEB-461E-9B49-1D4F490F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39B1-8021-42C9-9715-71971E03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016D-B401-4011-B9D7-AC3DEE70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5F4-71E1-4495-A11B-C53408C4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6781-36A4-459C-AD2F-2FBE0CBA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43C6-889D-4964-B886-7AD479AF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0C4B-9063-4A1B-83FA-F4066E2A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F607-0E13-4011-8403-9F53FC04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3434-BE92-44C5-92FF-86F7EE78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109C-C058-4251-BF8A-4DC58464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69A4-1A3B-40E4-A187-70A8184C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EE85-DD43-45BC-B0A4-CC41DD4C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2A18-C9DB-4E36-9191-59CD84D4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48E-E6A0-4025-9457-73D1D6F8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BE0-0673-47DF-BAEC-7D02163C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6C0-1BC0-4D71-AC78-8A8198BD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2AC5-67A4-4DDA-A526-1135135AD93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D692-35E0-4ABD-9F6D-51715EC9124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dsmatrix.ru/goods-catalogue/Traditional-wafers/Vitamin-wafers-traditional.html" TargetMode="External"/><Relationship Id="rId3" Type="http://schemas.openxmlformats.org/officeDocument/2006/relationships/hyperlink" Target="http://www.goodsmatrix.ru/goods-catalogue/Traditional-wafers/Traditional-wafers-with-cream-and-vanilla.html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Производство Ваф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2700360" y="5373720"/>
            <a:ext cx="532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4608360" cy="3578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724000" y="188640"/>
            <a:ext cx="34196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хлаждение листов производят по-разному: охлаждают каждый лист отдельно или собирают выпеченные горячие листы в стопы, а затем охлаждаю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механизированных предприятиях вафельные листы охлаждают на специальном люлечном конвейере, где они охлаждаются непосредственно воздухом цеха без его искусственной циркуляц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5848560" cy="4386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20760"/>
            <a:ext cx="5651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иготовление начин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71636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прослойки вафель применяют следующие виды начинок: жировые, фруктовые, помадные, пралиновые и д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Жировые начин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Главными компонентами рецептуры жировых начинок являются сахарная пудра и кондитерский жир. Основой качества жировых начинок является способность жира при замесе насыщаться воздухом (способность к кремообразованию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Фруктовые начинк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ля обеспечения более длительного сохранения хрустящих свойств вафельных листов в последние годы стали применять иной способ приготовления начинки без уваривания. Фруктово-ягодную подварку смешивают при подогревании до температуры 90 °С с сахарной пудрой, инвертным сиропом и лимонной кислотой. После охлаждения до 50 °С в полученную массу вводят предварительно измельчённые возвратные отходы вафельных пластов. Перед намазкой начинку темперируют при 50 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Сливочная начинка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начинка крем-брюлн"/>
          <p:cNvPicPr/>
          <p:nvPr/>
        </p:nvPicPr>
        <p:blipFill>
          <a:blip r:embed="rId3"/>
          <a:stretch/>
        </p:blipFill>
        <p:spPr>
          <a:xfrm>
            <a:off x="4643280" y="3357720"/>
            <a:ext cx="4500720" cy="3500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мазывание вафельных листов начинк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64000" y="1557360"/>
            <a:ext cx="3780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афли с большим количеством слоёв и с влагосодержащими начинками не производят в связи с тем, что хрустящие свойствами внутреннего вафельного листа при контакте с помадными и фруктовыми начинками не сохраняются. Вафли с пятью и большим количеством слоёв вырабатывают с жировой и пралиновой начинкам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ля нанесения слоя начинки на вафельные листы применяют машины с валковым намазывающим механизмом или с подвижной намазывающей каретк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Вафельная начинка"/>
          <p:cNvPicPr/>
          <p:nvPr/>
        </p:nvPicPr>
        <p:blipFill>
          <a:blip r:embed="rId2"/>
          <a:stretch/>
        </p:blipFill>
        <p:spPr>
          <a:xfrm>
            <a:off x="0" y="1700280"/>
            <a:ext cx="5524560" cy="5157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324360" y="980640"/>
            <a:ext cx="4140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многих предприятиях пласты с начинкой подвергают выстойке в производственных помещениях в течение 5-6 ч. В процессе выстойки происходит выпрессовывание низкоплавких фракций жира из начинок и поглощение их вафельными листами. Вследствие этого повышается вязкость начинки, что способствует более прочному сцеплению слоя начинки с листами и созданию благоприятных условий для рез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Вафля с начинкой"/>
          <p:cNvPicPr/>
          <p:nvPr/>
        </p:nvPicPr>
        <p:blipFill>
          <a:blip r:embed="rId2"/>
          <a:stretch/>
        </p:blipFill>
        <p:spPr>
          <a:xfrm>
            <a:off x="3851280" y="1700280"/>
            <a:ext cx="5292720" cy="4465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езка вафельных листов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ласт режут дважды во взаимно перпендикулярных направлениях на отдельные изделия прямоугольной формы. При резке вафельных пластов образуются обрезки, которые после измельчения вводят в соответствующие виды начинок в количестве не более 12 % к массе начин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Нарезка вафель"/>
          <p:cNvPicPr/>
          <p:nvPr/>
        </p:nvPicPr>
        <p:blipFill>
          <a:blip r:embed="rId2"/>
          <a:stretch/>
        </p:blipFill>
        <p:spPr>
          <a:xfrm>
            <a:off x="3708360" y="3284640"/>
            <a:ext cx="5435640" cy="3573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79581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Упаковка ваф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Упаковка вафель"/>
          <p:cNvPicPr/>
          <p:nvPr/>
        </p:nvPicPr>
        <p:blipFill>
          <a:blip r:embed="rId2"/>
          <a:stretch/>
        </p:blipFill>
        <p:spPr>
          <a:xfrm>
            <a:off x="0" y="981000"/>
            <a:ext cx="4716360" cy="4319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Вафли в коробках"/>
          <p:cNvPicPr/>
          <p:nvPr/>
        </p:nvPicPr>
        <p:blipFill>
          <a:blip r:embed="rId3"/>
          <a:stretch/>
        </p:blipFill>
        <p:spPr>
          <a:xfrm>
            <a:off x="4716360" y="2668680"/>
            <a:ext cx="4427640" cy="4189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ранспорт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Машинка для перевозки тортов"/>
          <p:cNvPicPr/>
          <p:nvPr/>
        </p:nvPicPr>
        <p:blipFill>
          <a:blip r:embed="rId2"/>
          <a:stretch/>
        </p:blipFill>
        <p:spPr>
          <a:xfrm>
            <a:off x="1403280" y="162864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7885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готовление вафель в домашних услови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059280" y="2133720"/>
            <a:ext cx="3024000" cy="2454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084720" y="4005360"/>
            <a:ext cx="3059280" cy="285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476360" y="4627440"/>
            <a:ext cx="3057480" cy="2230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50920" y="1700280"/>
            <a:ext cx="2376360" cy="2881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084720" y="2060640"/>
            <a:ext cx="305928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68360" y="404640"/>
            <a:ext cx="835164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рустящая сладость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0" y="5010120"/>
            <a:ext cx="2700360" cy="184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372360" y="1484280"/>
            <a:ext cx="2771640" cy="237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156360" y="5157720"/>
            <a:ext cx="2987640" cy="1700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2771640" y="1557360"/>
            <a:ext cx="3456000" cy="3527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0" y="1628640"/>
            <a:ext cx="2700360" cy="1697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2987640" y="4971960"/>
            <a:ext cx="3025800" cy="1886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0" y="3213000"/>
            <a:ext cx="2724120" cy="1800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6372360" y="3716280"/>
            <a:ext cx="2771640" cy="1490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900000" y="1197000"/>
            <a:ext cx="7848720" cy="28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516720" y="4005360"/>
            <a:ext cx="2627280" cy="2852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11280" cy="2708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0" y="4238640"/>
            <a:ext cx="3492360" cy="2619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6300720" y="0"/>
            <a:ext cx="2843280" cy="1557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3492360" y="4592520"/>
            <a:ext cx="2951280" cy="2265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3348000" y="0"/>
            <a:ext cx="1820880" cy="2276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920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699920"/>
            <a:ext cx="6813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 такое вафл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ссортимент вафельных издел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изводство вафел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приготовление те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выпечка и охлаждение вафельных лис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приготовление начин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Намазывание вафельных листов начинк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Резка вафельных листов ,упако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орудование для производства вафе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готовление вафель в домашних услови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2800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985080" y="4221000"/>
            <a:ext cx="2158920" cy="2637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Что такое вафли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640" y="2133720"/>
            <a:ext cx="6453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афли – мучные кондитерские изделия, которые состоят из нескольких вафельных листов, прослоенных начинк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арактерная особенность вафель – хрустящие свойства вафельных лис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тобы сохранить хрустящие свойства, начинки для вафель должны содержать минимум влаги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настоящее время производители предлагают большой ассортимент вафель с различными начинками.</a:t>
            </a:r>
            <a:br>
              <a:rPr sz="2000"/>
            </a:b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443640" y="189000"/>
            <a:ext cx="2700360" cy="2560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227640" y="3954600"/>
            <a:ext cx="2916360" cy="2903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виды вафел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24000" y="1628640"/>
            <a:ext cx="5219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Вафли с жировой начинкой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– самый распространенный вид вафельных изделий. Жировые начинки в полной мере сохраняют хрустящие свойства вафель. Для изготовления вафель с жировой начинкой используются кондитерский жир, сахарная пудра, измельченные вафельные листы, ароматические добавки – ванилин, корицу, какао, фруктовые ароматизаторы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Вафли с помадной начинкой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, которая готовится так же, как и для конфет. Помадная начинка содержит большой процент патоки. В помадную начинку также добавляют необходимые вкусовые вещества и ароматизаторы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Вафли с фруктово-ягодными начинкам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– характеризуются низкой калорийностью, так как не содержат кондитерского жира, и прекрасными вкусовыми качествами. Для приготовления фруктовых начинок используется в основном яблочное пюре и сахар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3384360" cy="2155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3386160" cy="2060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012000" y="0"/>
            <a:ext cx="3132000" cy="1844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3889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изводители выпускают также мягкие вафли, вафли для диетического питания на фруктозе и витаминизированные вафл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ссортиментом вафельных изделий на  рын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афли традиционные –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  <a:hlinkClick r:id="rId2"/>
              </a:rPr>
              <a:t>витаминизированны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  <a:hlinkClick r:id="rId3"/>
              </a:rPr>
              <a:t>сливочны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 ванильные, ореховые , с шоколадом , со сгущенным молоком , фруктовые и друг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афли мягк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афельные трубоч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067280" y="2060640"/>
            <a:ext cx="2519280" cy="254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6084720" y="4653000"/>
            <a:ext cx="3059280" cy="2205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588000" y="2060640"/>
            <a:ext cx="2232000" cy="2592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5292720" y="0"/>
            <a:ext cx="2951280" cy="199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3995640" y="4581360"/>
            <a:ext cx="2089080" cy="2276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55818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ИЗВОДСТВО ВАФЕ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572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сновное оборудование для производства вафельных листов размером 290х290 мм производительностью до 180 лист/ча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Производство вафель включает в себя следующие операци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мес тес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ечку вафельных листов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х охлаждение, приготовление начин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мазку вафельных листов начин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хлаждение плас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х резку, упаковыва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34000" y="1700280"/>
            <a:ext cx="4410000" cy="4762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борудование для производства вафе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7705440" cy="4176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55640" y="2349360"/>
            <a:ext cx="3384720" cy="280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Приготовление те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990800"/>
            <a:ext cx="8001000" cy="40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мелких предприятиях вафельное тесто приготовляют периодическим способом в месильных машинах. В машину последовательно загружают фосфатиды, которые предварительно эмульгируют с небольшим количеством воды, растительное масло, желтки, гидрокарбонат натрия, соль и 10% предусмотренного расчётом количества воды. Включают машину и перемешивают в течение нескольких минут. Вводят всю воду и, если предусмотрено рецептурой, молоко. Вода и молоко должны иметь температуру 15-20 °С. Вводят половину рецептурной закладки муки, перемешивают около 3 мин, вводят оставшуюся муку и перемешивают ещё 10-15 мин. Готовое тесто должно иметь жидкую консистенцию. Влажность должна быть в пределах 58-65 %. Относительная плотность 1.02-1.10.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59280" y="4437000"/>
            <a:ext cx="3173400" cy="2421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92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ыпечка и охлаждение вафельных лис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471636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ыпечку производят между двумя массивными металлическими плитами с зазором 2-3 мм. Формование теста происходит непосредственно на обогреваемой поверхности плиты. Вследствие небольшой толщины листов и значительной поверхности выпаривания в вафельных формах процесс выпечки продолжается всего 2-3 мин. Процесс ведут при температуре поверхности плит 150-170 °С. При выпечке через щель между верхней и нижней плитой вытекает некоторое небольшое количества теста. Это тесто образует после выпечки на краях вафельного листа оттёки, которые снимают с форм вместе с выпеченными листами. Затем их отделяют от вафельного ли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4572000" cy="5157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0:48:05Z</dcterms:created>
  <dc:creator>User</dc:creator>
  <dc:description/>
  <dc:language>en-US</dc:language>
  <cp:lastModifiedBy>Komp</cp:lastModifiedBy>
  <dcterms:modified xsi:type="dcterms:W3CDTF">2012-01-19T10:15:18Z</dcterms:modified>
  <cp:revision>24</cp:revision>
  <dc:subject/>
  <dc:title>Валютный рынок США</dc:title>
</cp:coreProperties>
</file>